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gif" ContentType="image/gif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2B8-D78D-412E-AF2E-588CBDEF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75B-0CA0-469A-A715-9684C84F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20D-9026-46BD-9D73-19F924B6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178-3E17-4BA1-89FB-3CFA4D8C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1C01-21C3-4D6C-A43D-3BFBCCD7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9CB3-32FE-4BF7-B9BA-22B0D4A7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5F0C-121F-47D3-980A-F314A33E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46F1-5EC0-4756-96F4-4634F5EF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44C7-2EA8-4EAC-B7F3-8DCD60D3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86B8-B118-4489-97E6-4EE42D3E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9EC2-5F79-49FB-9F08-67834740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7A6-BF95-455E-A3EF-A7CC63C2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B555-E8E0-44BB-A150-E2A0C45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92ED-F89E-45A6-9107-C00A5EED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57C9-7F92-447C-B4CC-295917E8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F979-A3E4-474C-ABB0-E5326655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CAB4-E1E4-48BF-9B65-2150AEF4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36EF-3C15-4F7B-A3DC-D03A0DEF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B522-934E-406B-A29C-B658DC91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6C6E-146D-4BD5-AD68-B691AEDA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F129-5765-4ED6-9CF9-B6601492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67E9-A414-4D7E-A66C-20E583B4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EEB-1A11-4521-B73B-BE0C9B00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9E13-CFB4-4AD0-BA4E-0F509712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C786-8478-4CE6-BE7D-A0B8725B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C9A4-511A-4A59-BEA5-01D4FA19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9885-C28B-418B-9B4E-FB8F0EB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6638-03D3-457A-9347-4EEAD88C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519C-BFB3-4D68-991B-0BEF6DA8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6A09-B9D3-454E-BD4F-34D10CA1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F909-8168-45A6-91F0-B26DF614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CE08-8D31-41DA-824B-ED8E2D58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6809-D941-475C-A319-17A4F31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58D-362B-45F9-8E1C-022A56D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5B4C-7764-4EEF-8535-22B60553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D28A-B2FD-4C0B-9109-6002A12F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0445E-8125-4726-A9A2-4A2B2BD8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625F1-6A48-4CAB-9CCB-ADD8703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3E49-4CDF-4537-93DD-FD31D41D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433F-5002-4CBB-A11B-C4DCA2F2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7FB43-D625-4063-B645-62597B9C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F250-1CB7-4DDB-A4BB-2278FB22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8D9A-34ED-4205-8F58-671A6379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C79-E1E0-4941-9170-014D16C2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0E0-6ABC-407D-8155-8022DE2E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B92-3BC4-47C8-8115-441D302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7A4FCA-E7AE-441B-8D3B-EF81437B5EA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D0F0B-1DAF-4229-B02B-3443586138C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08CA46-E466-4281-ACF9-F5F1025008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07145C-8A28-470C-9731-A56E9F6E8E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D8AFAD-F3C1-495A-9F66-2E1846F836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D1E7C-4D49-4A56-BD58-C2F5582AD5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50541B-20D4-4667-A46D-12E3D4EB4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558-14F6-4D62-80E9-43394BB0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8012C5-3FCE-451F-A6E6-485EFCCFBB3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E30BC-2752-411B-A607-99694B2008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41397C-3E7C-47E2-8CD4-83A60E7680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8C49A6-D315-483B-B54C-71CCCC6F07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77A84B-9046-451A-ACC3-8DE1C4E3B1C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148-5084-446C-B10D-331B13DD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../../&#30446;&#24405;.pp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../../&#30446;&#24405;.pp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78C6-D6AB-4EE8-A520-3361277871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FEA4-62C3-494F-B8CD-9EFF56F2C1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D14F-F8AF-47D8-B613-8F9AA84A57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7C3C-C8B4-42B5-A02A-2A3E5509D9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图片4">
            <a:hlinkClick r:id="rId3"/>
          </p:cNvPr>
          <p:cNvPicPr/>
          <p:nvPr/>
        </p:nvPicPr>
        <p:blipFill>
          <a:blip r:embed="rId4"/>
          <a:srcRect l="0" t="0" r="69859" b="0"/>
          <a:stretch/>
        </p:blipFill>
        <p:spPr>
          <a:xfrm>
            <a:off x="7812000" y="6413400"/>
            <a:ext cx="393840" cy="335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图片4">
            <a:hlinkClick r:id="" action="ppaction://hlinkshowjump?jump=firstslide"/>
          </p:cNvPr>
          <p:cNvPicPr/>
          <p:nvPr/>
        </p:nvPicPr>
        <p:blipFill>
          <a:blip r:embed="rId5"/>
          <a:srcRect l="35771" t="0" r="33343" b="0"/>
          <a:stretch/>
        </p:blipFill>
        <p:spPr>
          <a:xfrm>
            <a:off x="8278920" y="6413400"/>
            <a:ext cx="403200" cy="335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图片4">
            <a:hlinkClick r:id="" action="ppaction://hlinkshowjump?jump=lastslide"/>
          </p:cNvPr>
          <p:cNvPicPr/>
          <p:nvPr/>
        </p:nvPicPr>
        <p:blipFill>
          <a:blip r:embed="rId6"/>
          <a:srcRect l="69611" t="0" r="1463" b="0"/>
          <a:stretch/>
        </p:blipFill>
        <p:spPr>
          <a:xfrm>
            <a:off x="8720280" y="6413400"/>
            <a:ext cx="377640" cy="335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图片4"/>
          <p:cNvPicPr/>
          <p:nvPr/>
        </p:nvPicPr>
        <p:blipFill>
          <a:blip r:embed="rId7"/>
          <a:stretch/>
        </p:blipFill>
        <p:spPr>
          <a:xfrm>
            <a:off x="2878200" y="6238800"/>
            <a:ext cx="1292040" cy="285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图片5"/>
          <p:cNvPicPr/>
          <p:nvPr/>
        </p:nvPicPr>
        <p:blipFill>
          <a:blip r:embed="rId8"/>
          <a:stretch/>
        </p:blipFill>
        <p:spPr>
          <a:xfrm>
            <a:off x="4653000" y="6238800"/>
            <a:ext cx="129204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4">
            <a:hlinkClick r:id="rId3"/>
          </p:cNvPr>
          <p:cNvPicPr/>
          <p:nvPr/>
        </p:nvPicPr>
        <p:blipFill>
          <a:blip r:embed="rId4"/>
          <a:srcRect l="0" t="0" r="69859" b="0"/>
          <a:stretch/>
        </p:blipFill>
        <p:spPr>
          <a:xfrm>
            <a:off x="7812000" y="6413400"/>
            <a:ext cx="393840" cy="335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图片4">
            <a:hlinkClick r:id="" action="ppaction://hlinkshowjump?jump=firstslide"/>
          </p:cNvPr>
          <p:cNvPicPr/>
          <p:nvPr/>
        </p:nvPicPr>
        <p:blipFill>
          <a:blip r:embed="rId5"/>
          <a:srcRect l="35771" t="0" r="33343" b="0"/>
          <a:stretch/>
        </p:blipFill>
        <p:spPr>
          <a:xfrm>
            <a:off x="8278920" y="6413400"/>
            <a:ext cx="403200" cy="335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片4">
            <a:hlinkClick r:id="" action="ppaction://hlinkshowjump?jump=lastslide"/>
          </p:cNvPr>
          <p:cNvPicPr/>
          <p:nvPr/>
        </p:nvPicPr>
        <p:blipFill>
          <a:blip r:embed="rId6"/>
          <a:srcRect l="69611" t="0" r="1463" b="0"/>
          <a:stretch/>
        </p:blipFill>
        <p:spPr>
          <a:xfrm>
            <a:off x="8720280" y="6413400"/>
            <a:ext cx="377640" cy="33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图片4"/>
          <p:cNvPicPr/>
          <p:nvPr/>
        </p:nvPicPr>
        <p:blipFill>
          <a:blip r:embed="rId7"/>
          <a:stretch/>
        </p:blipFill>
        <p:spPr>
          <a:xfrm>
            <a:off x="2544840" y="6249960"/>
            <a:ext cx="1292040" cy="28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图片5"/>
          <p:cNvPicPr/>
          <p:nvPr/>
        </p:nvPicPr>
        <p:blipFill>
          <a:blip r:embed="rId8"/>
          <a:stretch/>
        </p:blipFill>
        <p:spPr>
          <a:xfrm>
            <a:off x="4195800" y="6249960"/>
            <a:ext cx="1292040" cy="28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图片6"/>
          <p:cNvPicPr/>
          <p:nvPr/>
        </p:nvPicPr>
        <p:blipFill>
          <a:blip r:embed="rId9"/>
          <a:stretch/>
        </p:blipFill>
        <p:spPr>
          <a:xfrm>
            <a:off x="5846760" y="6249960"/>
            <a:ext cx="134136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7169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Num" idx="13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5DE2FC3-51E6-419D-941E-AA8CC8A62354}" type="slidenum"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8193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gif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3"/>
          <p:cNvSpPr/>
          <p:nvPr/>
        </p:nvSpPr>
        <p:spPr>
          <a:xfrm>
            <a:off x="2411280" y="2276640"/>
            <a:ext cx="4175280" cy="1191240"/>
          </a:xfrm>
          <a:prstGeom prst="rect">
            <a:avLst/>
          </a:prstGeom>
          <a:solidFill>
            <a:srgbClr val="ff00ff">
              <a:alpha val="32000"/>
            </a:srgbClr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cf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细黑"/>
              </a:rPr>
              <a:t>Revie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900000" y="620640"/>
            <a:ext cx="7431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Read the lesson and fill in the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50920" y="1413000"/>
          <a:ext cx="8748720" cy="5703840"/>
        </p:xfrm>
        <a:graphic>
          <a:graphicData uri="http://schemas.openxmlformats.org/drawingml/2006/table">
            <a:tbl>
              <a:tblPr/>
              <a:tblGrid>
                <a:gridCol w="2146320"/>
                <a:gridCol w="2378160"/>
                <a:gridCol w="2111400"/>
                <a:gridCol w="2112840"/>
              </a:tblGrid>
              <a:tr h="91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Club Na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Chess Clu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Acting Gro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Swim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What is good about this club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Club Meeting Day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Text Box 26"/>
          <p:cNvSpPr/>
          <p:nvPr/>
        </p:nvSpPr>
        <p:spPr>
          <a:xfrm>
            <a:off x="2411280" y="2505240"/>
            <a:ext cx="25923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宋体"/>
              </a:rPr>
              <a:t>Challenge you and make you think hard, learn and have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7"/>
          <p:cNvSpPr/>
          <p:nvPr/>
        </p:nvSpPr>
        <p:spPr>
          <a:xfrm>
            <a:off x="4716360" y="2525760"/>
            <a:ext cx="23767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a15"/>
                </a:solidFill>
                <a:latin typeface="Times New Roman"/>
                <a:ea typeface="宋体"/>
              </a:rPr>
              <a:t>meet lots of new people and improve your soc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8"/>
          <p:cNvSpPr/>
          <p:nvPr/>
        </p:nvSpPr>
        <p:spPr>
          <a:xfrm>
            <a:off x="6948360" y="2525760"/>
            <a:ext cx="2087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宋体"/>
              </a:rPr>
              <a:t>stay in shape and have a good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9"/>
          <p:cNvSpPr/>
          <p:nvPr/>
        </p:nvSpPr>
        <p:spPr>
          <a:xfrm>
            <a:off x="2484360" y="4797360"/>
            <a:ext cx="2448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宋体"/>
              </a:rPr>
              <a:t>Tuesdays and Thursdays after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4788000" y="4797360"/>
            <a:ext cx="2305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宋体"/>
              </a:rPr>
              <a:t>every Monday, Wednesday and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3"/>
          <p:cNvSpPr/>
          <p:nvPr/>
        </p:nvSpPr>
        <p:spPr>
          <a:xfrm>
            <a:off x="7020000" y="4797360"/>
            <a:ext cx="1944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fter school and on week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79280" y="1052640"/>
          <a:ext cx="8785080" cy="5298840"/>
        </p:xfrm>
        <a:graphic>
          <a:graphicData uri="http://schemas.openxmlformats.org/drawingml/2006/table">
            <a:tbl>
              <a:tblPr/>
              <a:tblGrid>
                <a:gridCol w="2367000"/>
                <a:gridCol w="3027240"/>
                <a:gridCol w="3390840"/>
              </a:tblGrid>
              <a:tr h="749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3333ff"/>
                          </a:solidFill>
                          <a:latin typeface="Times New Roman"/>
                          <a:ea typeface="华文细黑"/>
                        </a:rPr>
                        <a:t>Club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3333ff"/>
                          </a:solidFill>
                          <a:latin typeface="Times New Roman"/>
                          <a:ea typeface="华文细黑"/>
                        </a:rPr>
                        <a:t>Tim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3333ff"/>
                          </a:solidFill>
                          <a:latin typeface="Times New Roman"/>
                          <a:ea typeface="华文细黑"/>
                        </a:rPr>
                        <a:t>Place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Chess clu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Acting Grou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Swim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Text Box 25"/>
          <p:cNvSpPr/>
          <p:nvPr/>
        </p:nvSpPr>
        <p:spPr>
          <a:xfrm>
            <a:off x="2556000" y="1773360"/>
            <a:ext cx="288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Tuesdays and Thursdays after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484360" y="3214800"/>
            <a:ext cx="324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every Monday, Wednesday and 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627280" y="4581360"/>
            <a:ext cx="288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after school and on week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8"/>
          <p:cNvSpPr/>
          <p:nvPr/>
        </p:nvSpPr>
        <p:spPr>
          <a:xfrm>
            <a:off x="5726520" y="3500280"/>
            <a:ext cx="2910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school thea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9"/>
          <p:cNvSpPr/>
          <p:nvPr/>
        </p:nvSpPr>
        <p:spPr>
          <a:xfrm>
            <a:off x="5975280" y="20970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Room 2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0"/>
          <p:cNvSpPr/>
          <p:nvPr/>
        </p:nvSpPr>
        <p:spPr>
          <a:xfrm>
            <a:off x="6086520" y="4797360"/>
            <a:ext cx="1742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the 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1"/>
          <p:cNvSpPr/>
          <p:nvPr/>
        </p:nvSpPr>
        <p:spPr>
          <a:xfrm>
            <a:off x="2700360" y="260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hy do you join the clu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ff">
              <a:alpha val="1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llenge you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ke you think h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ave f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eet lots of new peop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mprove your social sk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y in shap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ave a goo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mprove your thinking sk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mprove your Engli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250920" y="2637000"/>
            <a:ext cx="8686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: It’s so hot today. Let’s go _________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: Yeah. That’s a great ide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A: I am going out for dinner with s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riends. Would you like to _____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: Yes, I’d love 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789120" y="476280"/>
            <a:ext cx="8138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a15"/>
                </a:solidFill>
                <a:latin typeface="Times New Roman"/>
                <a:ea typeface="宋体"/>
              </a:rPr>
              <a:t>Fill in the blanks with the correct forms of the words in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"/>
          <p:cNvSpPr/>
          <p:nvPr/>
        </p:nvSpPr>
        <p:spPr>
          <a:xfrm>
            <a:off x="179280" y="552600"/>
            <a:ext cx="609840" cy="579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00e2"/>
                </a:solidFill>
                <a:latin typeface="Arial Black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39640" y="3357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swi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516720" y="5445000"/>
            <a:ext cx="10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1042920" y="1700280"/>
            <a:ext cx="6624720" cy="642600"/>
          </a:xfrm>
          <a:prstGeom prst="rect">
            <a:avLst/>
          </a:prstGeom>
          <a:solidFill>
            <a:srgbClr val="fff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join   pool    swim    skill   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24000" y="1413000"/>
            <a:ext cx="86104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he can sing, dance, cook and draw. She has many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 His English is very good. He is at a high 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 There is a _____ near my house. I like to go swimming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714760" y="2176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skil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843120" y="34732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lev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2889360" y="40766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p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WordArt 3"/>
          <p:cNvSpPr txBox="1"/>
          <p:nvPr/>
        </p:nvSpPr>
        <p:spPr>
          <a:xfrm>
            <a:off x="971640" y="2276640"/>
            <a:ext cx="755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Language points 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574640"/>
          </a:xfrm>
          <a:prstGeom prst="rect">
            <a:avLst/>
          </a:prstGeom>
          <a:solidFill>
            <a:srgbClr val="ff00ff">
              <a:alpha val="1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Let's do i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611280" y="189000"/>
            <a:ext cx="806436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 Do you want to 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make new friend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a15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8a15"/>
                </a:solidFill>
                <a:latin typeface="Times New Roman"/>
                <a:ea typeface="宋体"/>
              </a:rPr>
              <a:t>make friends  </a:t>
            </a:r>
            <a:r>
              <a:rPr b="1" lang="zh-CN" sz="3600" spc="-1" strike="noStrike">
                <a:solidFill>
                  <a:srgbClr val="ff8a15"/>
                </a:solidFill>
                <a:latin typeface="Times New Roman"/>
                <a:ea typeface="宋体"/>
              </a:rPr>
              <a:t>交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a15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8a15"/>
                </a:solidFill>
                <a:latin typeface="Times New Roman"/>
                <a:ea typeface="宋体"/>
              </a:rPr>
              <a:t>make friends with… </a:t>
            </a:r>
            <a:r>
              <a:rPr b="1" lang="zh-CN" sz="3600" spc="-1" strike="noStrike">
                <a:solidFill>
                  <a:srgbClr val="ff8a15"/>
                </a:solidFill>
                <a:latin typeface="Times New Roman"/>
                <a:ea typeface="宋体"/>
              </a:rPr>
              <a:t>和……交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like to 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make friends wi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asy-go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ers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喜欢同随和的人交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can 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make friends wi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other count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他们可以与其他国家的人交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42560" y="404640"/>
            <a:ext cx="9001080" cy="53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You will learn and have fun </a:t>
            </a:r>
            <a:r>
              <a:rPr b="0" lang="zh-CN" sz="3600" spc="-1" strike="noStrike">
                <a:solidFill>
                  <a:srgbClr val="c00000"/>
                </a:solidFill>
                <a:latin typeface="Times New Roman"/>
              </a:rPr>
              <a:t>at the same ti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8a15"/>
                </a:solidFill>
                <a:latin typeface="Times New Roman"/>
              </a:rPr>
              <a:t>at the same time </a:t>
            </a:r>
            <a:r>
              <a:rPr b="0" lang="zh-CN" sz="3600" spc="-1" strike="noStrike">
                <a:solidFill>
                  <a:srgbClr val="ff8a15"/>
                </a:solidFill>
                <a:latin typeface="Times New Roman"/>
              </a:rPr>
              <a:t>同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e was laughing and crying </a:t>
            </a:r>
            <a:r>
              <a:rPr b="0" lang="zh-CN" sz="3600" spc="-1" strike="noStrike">
                <a:solidFill>
                  <a:srgbClr val="c00000"/>
                </a:solidFill>
                <a:latin typeface="Times New Roman"/>
              </a:rPr>
              <a:t>at the same ti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她一边笑一边哭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y do the same thing </a:t>
            </a:r>
            <a:r>
              <a:rPr b="0" lang="zh-CN" sz="3600" spc="-1" strike="noStrike">
                <a:solidFill>
                  <a:srgbClr val="c00000"/>
                </a:solidFill>
                <a:latin typeface="Times New Roman"/>
              </a:rPr>
              <a:t>at the same tim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们在同一时间做同一件事情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181080" y="260280"/>
            <a:ext cx="878364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. join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ake part 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辨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指参加某个团体、组织或俱乐部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用于加入某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ake part 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指参加某项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e wants to ________the chess clu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I _______________ the high jump last mon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今年他加入了英语俱乐部，并参加了英语演讲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e _______________ the English club and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 the English speech contest this ye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8720" y="37180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  <a:ea typeface="宋体"/>
              </a:rPr>
              <a:t>took par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2771640" y="32130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  <a:ea typeface="宋体"/>
              </a:rPr>
              <a:t>joi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260360" y="508464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jo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took par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179280" y="260280"/>
            <a:ext cx="8964720" cy="64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项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My parents are _______ English teach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all        B. other       C. both         D.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 have _______ to do. Let’s play a g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. something    B. everything  C. anything     D.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 He likes singing. He can join the ____ clu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. art       B. chess      C. music    D.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. The boy is interested ____ ping-pong and he also does well ____ basketb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. in; at   B. in; in      C. at; at       D. at;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. My family is going _____ a trip next w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. at      B. in       C. with         D.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9" descr="191"/>
          <p:cNvPicPr/>
          <p:nvPr/>
        </p:nvPicPr>
        <p:blipFill>
          <a:blip r:embed="rId1"/>
          <a:stretch/>
        </p:blipFill>
        <p:spPr>
          <a:xfrm>
            <a:off x="3419640" y="1339920"/>
            <a:ext cx="523800" cy="536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191"/>
          <p:cNvPicPr/>
          <p:nvPr/>
        </p:nvPicPr>
        <p:blipFill>
          <a:blip r:embed="rId2"/>
          <a:stretch/>
        </p:blipFill>
        <p:spPr>
          <a:xfrm>
            <a:off x="6877080" y="2421000"/>
            <a:ext cx="523800" cy="536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191"/>
          <p:cNvPicPr/>
          <p:nvPr/>
        </p:nvPicPr>
        <p:blipFill>
          <a:blip r:embed="rId3"/>
          <a:stretch/>
        </p:blipFill>
        <p:spPr>
          <a:xfrm>
            <a:off x="3780000" y="3500280"/>
            <a:ext cx="523800" cy="536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9" descr="191"/>
          <p:cNvPicPr/>
          <p:nvPr/>
        </p:nvPicPr>
        <p:blipFill>
          <a:blip r:embed="rId4"/>
          <a:stretch/>
        </p:blipFill>
        <p:spPr>
          <a:xfrm>
            <a:off x="1763640" y="5013360"/>
            <a:ext cx="523800" cy="536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9" descr="191"/>
          <p:cNvPicPr/>
          <p:nvPr/>
        </p:nvPicPr>
        <p:blipFill>
          <a:blip r:embed="rId5"/>
          <a:stretch/>
        </p:blipFill>
        <p:spPr>
          <a:xfrm>
            <a:off x="4932360" y="6093000"/>
            <a:ext cx="5238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3"/>
          <p:cNvSpPr txBox="1"/>
          <p:nvPr/>
        </p:nvSpPr>
        <p:spPr>
          <a:xfrm rot="1140000">
            <a:off x="2006640" y="398520"/>
            <a:ext cx="5145120" cy="45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996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Practice</a:t>
            </a:r>
            <a:endParaRPr b="1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996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395280" y="1092240"/>
            <a:ext cx="82090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want to 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参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 our club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Do you want to 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提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 your 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思想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 ski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 This difficult question _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挑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 him very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 Social skill is very 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 for your future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4502160" y="45561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se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5221800" y="318780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hallen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37800" y="24670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3926520" y="181944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mpr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068720" y="117144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539640" y="457200"/>
            <a:ext cx="56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根据汉语提示完成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395280" y="1092240"/>
            <a:ext cx="820908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 He plays a very important 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角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 in this projec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. The 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 of apple is 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. Swimming can make you ___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保持体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8. Li Ming is swimming in a 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水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086520" y="45086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5796720" y="314172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tay in sha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36360" y="2492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6158880" y="11253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2"/>
            </a:gs>
            <a:gs pos="100000">
              <a:srgbClr val="fff0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1692360" y="1916280"/>
            <a:ext cx="568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Thank you.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108000" y="44280"/>
            <a:ext cx="9001080" cy="66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句型转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I’d like to join the chess club. 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一般疑问句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 you ______ ______ join the chess club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We are going to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have a party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next week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对画线部分提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 ______ you ______ ______ ______ next week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My sister is good at math. 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同义句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y sister ______ ______ ______ ma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good; vegetables; are; our; health; fo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连词成句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Tom often plays volleyball every Sunday. 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omorrow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句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om ____ _______ _____ ______ volleyball tomorrow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6360" y="981000"/>
            <a:ext cx="6696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Woul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like      to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What   are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going    to    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does   well     i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Vegetables are good for our heal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is   going   to  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03280" y="2924280"/>
            <a:ext cx="64454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 Narrow"/>
                <a:ea typeface="宋体"/>
              </a:rPr>
              <a:t>Lesson 20</a:t>
            </a:r>
            <a:br>
              <a:rPr sz="5000"/>
            </a:br>
            <a:r>
              <a:rPr b="1" lang="zh-CN" sz="5000" spc="-1" strike="noStrike">
                <a:solidFill>
                  <a:srgbClr val="000000"/>
                </a:solidFill>
                <a:latin typeface="Arial Narrow"/>
                <a:ea typeface="宋体"/>
              </a:rPr>
              <a:t>Join Our Club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4"/>
          <p:cNvSpPr txBox="1"/>
          <p:nvPr/>
        </p:nvSpPr>
        <p:spPr>
          <a:xfrm>
            <a:off x="900000" y="1484280"/>
            <a:ext cx="741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Unit 4  After-School Activities</a:t>
            </a:r>
            <a:endParaRPr b="1" lang="en-US" sz="1800" spc="1" strike="noStrike">
              <a:ln w="12600">
                <a:solidFill>
                  <a:srgbClr val="ff66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7" name="文本框 10243"/>
          <p:cNvSpPr/>
          <p:nvPr/>
        </p:nvSpPr>
        <p:spPr>
          <a:xfrm>
            <a:off x="1188720" y="62244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冀教版　七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3"/>
          <p:cNvSpPr txBox="1"/>
          <p:nvPr/>
        </p:nvSpPr>
        <p:spPr>
          <a:xfrm>
            <a:off x="1116000" y="1123920"/>
            <a:ext cx="3124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Free Talk</a:t>
            </a:r>
            <a:endParaRPr b="1" lang="en-US" sz="1800" spc="1" strike="noStrike">
              <a:ln w="12600">
                <a:solidFill>
                  <a:srgbClr val="ff66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611280" y="1989000"/>
            <a:ext cx="7200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any clubs are there in your school? What are th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290880" y="371628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Chess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art club1"/>
          <p:cNvPicPr/>
          <p:nvPr/>
        </p:nvPicPr>
        <p:blipFill>
          <a:blip r:embed="rId1"/>
          <a:stretch/>
        </p:blipFill>
        <p:spPr>
          <a:xfrm>
            <a:off x="3635280" y="4149720"/>
            <a:ext cx="1712880" cy="1943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3672360" y="6089760"/>
            <a:ext cx="17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Art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English club1"/>
          <p:cNvPicPr/>
          <p:nvPr/>
        </p:nvPicPr>
        <p:blipFill>
          <a:blip r:embed="rId2"/>
          <a:stretch/>
        </p:blipFill>
        <p:spPr>
          <a:xfrm>
            <a:off x="3203640" y="1700280"/>
            <a:ext cx="2361960" cy="158904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0"/>
          <p:cNvSpPr/>
          <p:nvPr/>
        </p:nvSpPr>
        <p:spPr>
          <a:xfrm>
            <a:off x="3237840" y="342900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English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1" descr="swimming club"/>
          <p:cNvPicPr/>
          <p:nvPr/>
        </p:nvPicPr>
        <p:blipFill>
          <a:blip r:embed="rId3"/>
          <a:stretch/>
        </p:blipFill>
        <p:spPr>
          <a:xfrm>
            <a:off x="6372360" y="1700280"/>
            <a:ext cx="1646280" cy="172728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2"/>
          <p:cNvSpPr/>
          <p:nvPr/>
        </p:nvSpPr>
        <p:spPr>
          <a:xfrm>
            <a:off x="6125400" y="3429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Swim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3" descr="music club"/>
          <p:cNvPicPr/>
          <p:nvPr/>
        </p:nvPicPr>
        <p:blipFill>
          <a:blip r:embed="rId4"/>
          <a:stretch/>
        </p:blipFill>
        <p:spPr>
          <a:xfrm>
            <a:off x="539640" y="4292640"/>
            <a:ext cx="2057400" cy="17478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4"/>
          <p:cNvSpPr/>
          <p:nvPr/>
        </p:nvSpPr>
        <p:spPr>
          <a:xfrm>
            <a:off x="510480" y="609300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Music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5" descr="gif022[2]"/>
          <p:cNvPicPr/>
          <p:nvPr/>
        </p:nvPicPr>
        <p:blipFill>
          <a:blip r:embed="rId5"/>
          <a:stretch/>
        </p:blipFill>
        <p:spPr>
          <a:xfrm>
            <a:off x="6227640" y="4076640"/>
            <a:ext cx="2286000" cy="20322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6"/>
          <p:cNvSpPr/>
          <p:nvPr/>
        </p:nvSpPr>
        <p:spPr>
          <a:xfrm>
            <a:off x="6224760" y="6093000"/>
            <a:ext cx="22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Guitar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569880" y="9810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I want to join the …And I ca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9" descr="u=937483789,3563428744&amp;fm=23&amp;gp=0"/>
          <p:cNvPicPr/>
          <p:nvPr/>
        </p:nvPicPr>
        <p:blipFill>
          <a:blip r:embed="rId6"/>
          <a:stretch/>
        </p:blipFill>
        <p:spPr>
          <a:xfrm>
            <a:off x="252360" y="1557360"/>
            <a:ext cx="2573280" cy="1920960"/>
          </a:xfrm>
          <a:prstGeom prst="rect">
            <a:avLst/>
          </a:prstGeom>
          <a:ln w="0">
            <a:noFill/>
          </a:ln>
        </p:spPr>
      </p:pic>
      <p:sp>
        <p:nvSpPr>
          <p:cNvPr id="356" name="文本框 1"/>
          <p:cNvSpPr/>
          <p:nvPr/>
        </p:nvSpPr>
        <p:spPr>
          <a:xfrm>
            <a:off x="611280" y="-100080"/>
            <a:ext cx="7480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kind of clubs do you wan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 join in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3"/>
          <p:cNvGrpSpPr/>
          <p:nvPr/>
        </p:nvGrpSpPr>
        <p:grpSpPr>
          <a:xfrm>
            <a:off x="611280" y="836640"/>
            <a:ext cx="4248000" cy="765000"/>
            <a:chOff x="611280" y="836640"/>
            <a:chExt cx="4248000" cy="765000"/>
          </a:xfrm>
        </p:grpSpPr>
        <p:pic>
          <p:nvPicPr>
            <p:cNvPr id="358" name="Picture 3" descr="BAN_228"/>
            <p:cNvPicPr/>
            <p:nvPr/>
          </p:nvPicPr>
          <p:blipFill>
            <a:blip r:embed="rId1"/>
            <a:stretch/>
          </p:blipFill>
          <p:spPr>
            <a:xfrm>
              <a:off x="611280" y="836640"/>
              <a:ext cx="4175280" cy="76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5"/>
            <p:cNvSpPr/>
            <p:nvPr/>
          </p:nvSpPr>
          <p:spPr>
            <a:xfrm>
              <a:off x="1330560" y="915840"/>
              <a:ext cx="35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cc"/>
                  </a:solidFill>
                  <a:latin typeface="Arial"/>
                  <a:ea typeface="宋体"/>
                </a:rPr>
                <a:t>     </a:t>
              </a:r>
              <a:r>
                <a:rPr b="1" lang="zh-CN" sz="3600" spc="-1" strike="noStrike">
                  <a:solidFill>
                    <a:srgbClr val="cc00cc"/>
                  </a:solidFill>
                  <a:latin typeface="Arial"/>
                  <a:ea typeface="宋体"/>
                </a:rPr>
                <a:t>Wor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611280" y="1779480"/>
            <a:ext cx="280836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impr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635280" y="1773360"/>
            <a:ext cx="51134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v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参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v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提高；改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dj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思想的；理性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技能；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v.&amp;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挑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聚会；会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v.&amp;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；扮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3"/>
          <p:cNvGrpSpPr/>
          <p:nvPr/>
        </p:nvGrpSpPr>
        <p:grpSpPr>
          <a:xfrm>
            <a:off x="611280" y="996840"/>
            <a:ext cx="4248000" cy="765000"/>
            <a:chOff x="611280" y="996840"/>
            <a:chExt cx="4248000" cy="765000"/>
          </a:xfrm>
        </p:grpSpPr>
        <p:pic>
          <p:nvPicPr>
            <p:cNvPr id="363" name="Picture 3" descr="BAN_228"/>
            <p:cNvPicPr/>
            <p:nvPr/>
          </p:nvPicPr>
          <p:blipFill>
            <a:blip r:embed="rId1"/>
            <a:stretch/>
          </p:blipFill>
          <p:spPr>
            <a:xfrm>
              <a:off x="611280" y="996840"/>
              <a:ext cx="4175280" cy="76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 Box 5"/>
            <p:cNvSpPr/>
            <p:nvPr/>
          </p:nvSpPr>
          <p:spPr>
            <a:xfrm>
              <a:off x="1330560" y="1076040"/>
              <a:ext cx="35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cc"/>
                  </a:solidFill>
                  <a:latin typeface="Arial"/>
                  <a:ea typeface="宋体"/>
                </a:rPr>
                <a:t>     </a:t>
              </a:r>
              <a:r>
                <a:rPr b="1" lang="zh-CN" sz="3600" spc="-1" strike="noStrike">
                  <a:solidFill>
                    <a:srgbClr val="cc00cc"/>
                  </a:solidFill>
                  <a:latin typeface="Arial"/>
                  <a:ea typeface="宋体"/>
                </a:rPr>
                <a:t>Wor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6"/>
          <p:cNvSpPr/>
          <p:nvPr/>
        </p:nvSpPr>
        <p:spPr>
          <a:xfrm>
            <a:off x="395280" y="1940040"/>
            <a:ext cx="280836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use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3419640" y="1933560"/>
            <a:ext cx="511308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的；有益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职能；角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n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队；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样子；形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水平；标准；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池；水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3"/>
          <p:cNvSpPr txBox="1"/>
          <p:nvPr/>
        </p:nvSpPr>
        <p:spPr>
          <a:xfrm>
            <a:off x="1692360" y="1484280"/>
            <a:ext cx="568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Read and Amswer</a:t>
            </a:r>
            <a:endParaRPr b="1" lang="en-US" sz="1800" spc="-1" strike="noStrike">
              <a:ln w="0">
                <a:noFill/>
              </a:ln>
              <a:solidFill>
                <a:srgbClr val="00206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1:10:22Z</dcterms:created>
  <dc:creator>微软用户</dc:creator>
  <dc:description/>
  <dc:language>en-US</dc:language>
  <cp:lastModifiedBy>Administrator</cp:lastModifiedBy>
  <dcterms:modified xsi:type="dcterms:W3CDTF">2019-01-02T00:52:28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